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EC2BB-BE4C-46BD-B8CC-452BB7928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29302-9203-4E17-93DD-6462C7E3D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688EA-9D79-432D-A081-4E2B02D79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81903-E4C3-4A0B-A8B9-D4EA01C36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CBEF-D0EF-46D1-846D-45C64D8A4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60AD2-1C79-4A97-B187-4346EF091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4A74D-88E9-4B74-8E6F-DC6FAC94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43014-5FC6-4E40-AFD5-2478D4894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2ECCB-60AE-4C83-9826-11F6AF6A0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06CA-E136-45E8-8C0B-A058243D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208D9-B4E9-4957-A9B0-DBCD71FF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A066-C789-46B1-985C-F4F941B47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48A0-8968-4938-B497-5C6C97CE7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0" lang="en-US" sz="4000" spc="-1" strike="noStrike">
                <a:solidFill>
                  <a:srgbClr val="000000"/>
                </a:solidFill>
                <a:latin typeface="Arial"/>
              </a:rPr>
              <a:t>Battle of Plassey</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East India Company gained control of all Indian trade- June 23, 1757</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tle of Plassey was established the British East India Company to gain control of all Indian trade. Because the Company defeated the Nawab of Bengal, The victory of the British resulted in their control over trade from a national to a local lev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ish Parliament passes India Act</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Government establishes rule over India (establishes the Raj)- Aug. 2, 1858</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1885</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National Congress was founded by Sir Allan Octavian H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cfisd</cp:lastModifiedBy>
  <dcterms:modified xsi:type="dcterms:W3CDTF">2009-03-26T13:08:28Z</dcterms:modified>
  <cp:revision>2</cp:revision>
  <dc:subject/>
  <dc:title>Colonization Timeline</dc:title>
</cp:coreProperties>
</file>