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F528C-F0B1-4520-8F5E-ABFBFD127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39B2E-9FF3-4AC9-84BF-898EA6253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E28E8-D9B3-4055-9958-F95F9AEF5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2F29F-E13B-41AF-8953-0EDC11439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66808-CD7A-4FB6-A1ED-5E8007C59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CC3B1-5EA6-4017-ADCF-0A91ED5AB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F8CA3-259B-4E1E-9CF3-D273A5D00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85595-990C-4F75-AEC8-3FC6DFC46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7A241-EBF9-4609-940E-D0C75591F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3980B-4D98-48DE-B541-3796D16FA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3A9E7-2381-4EA4-B28C-2918A1E01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68F9-28FC-4C24-B788-E744E143A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B2D0-CAD5-4B5B-B525-AB9A742051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br>
              <a:rPr sz="4000"/>
            </a:br>
            <a:r>
              <a:rPr b="0" lang="en-US" sz="4000" spc="-1" strike="noStrike">
                <a:solidFill>
                  <a:srgbClr val="000000"/>
                </a:solidFill>
                <a:latin typeface="Arial"/>
              </a:rPr>
              <a:t>Battle of Plassey</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itish East India Company gained control of all Indian trade- June 23, 1757</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ttle of Plassey was established the British East India Company to gain control of all Indian trade. Because the Company defeated the Nawab of Bengal, The victory of the British resulted in their control over trade from a national to a local leve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itish Parliament passes India Act</a:t>
            </a: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itish Government establishes rule over India (establishes the Raj)- Aug. 2, 1858</a:t>
            </a: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Britain gained control of most of India by 1858( the time period of British rule was referred to the as the Raj), the India act transferred that control to the British crown. Before the India act was enforced, the Indians tried to rebel but were defeated. There were many conflicts between the British and the Indians. Britain’s economy prospered as they gained India’s wealth but India was suffering greatly. The British had so much control over India that only two fifths of India was not under British ru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an National Congress founded-1885</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ian National Congress was founded by Sir Allan Octavian Hu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2:43:10Z</dcterms:created>
  <dc:creator>cfisd</dc:creator>
  <dc:description/>
  <dc:language>en-US</dc:language>
  <cp:lastModifiedBy>cfisd</cp:lastModifiedBy>
  <dcterms:modified xsi:type="dcterms:W3CDTF">2009-03-26T13:08:28Z</dcterms:modified>
  <cp:revision>2</cp:revision>
  <dc:subject/>
  <dc:title>Colonization Timeline</dc:title>
</cp:coreProperties>
</file>