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DF389-6188-439E-B5C0-C2D9B4A80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01CE3-5943-4558-B0D9-697E01A5D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3B3697-106A-416C-9E4D-7572A29C5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B54D78-7B58-4FB9-8562-02938FBC09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BBA55-77AE-46FC-B9C8-18C87A4D7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FFFB4-8348-4092-9A96-65400B6EE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38EA3-C044-4163-B1AD-B0A2227A1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C422E-2ECD-44FC-AC56-40374C49B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DEB15-25E8-423A-B36B-AD3B66D07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15B39-084B-43EC-9171-CB78907D0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80D0A-1F23-43EB-A898-A1544D637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98A43-CCD2-40D5-B343-90F3B08349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6A2F2-29A9-4099-A12F-DBEEBDE340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ertification Action Plan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e Chu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y V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ought</a:t>
            </a:r>
            <a:endParaRPr b="0" lang="en-US" sz="4400" spc="-1" strike="noStrike">
              <a:solidFill>
                <a:srgbClr val="000000"/>
              </a:solidFill>
              <a:latin typeface="Arial"/>
            </a:endParaRPr>
          </a:p>
        </p:txBody>
      </p:sp>
      <p:sp>
        <p:nvSpPr>
          <p:cNvPr id="44" name="PlaceHolder 2"/>
          <p:cNvSpPr>
            <a:spLocks noGrp="1"/>
          </p:cNvSpPr>
          <p:nvPr>
            <p:ph/>
          </p:nvPr>
        </p:nvSpPr>
        <p:spPr>
          <a:xfrm>
            <a:off x="250920" y="1413000"/>
            <a:ext cx="4897440" cy="4968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order to prevent droughts, we would find a way to drill underground to access the water underneath. After the water is collected, we would then irrigate it to areas that are in desperate need of it. In doing this, we would decrease the amount of environmental refugees, who are people who are forced to leave their homes due to environmental problems, because the refugees would have enough water near their homes. </a:t>
            </a: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ttp://www-robotics.jpl.nasa.gov/roboticImages/img840-211-browse.jp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5" name="Picture 5" descr="img840-211-browse"/>
          <p:cNvPicPr/>
          <p:nvPr/>
        </p:nvPicPr>
        <p:blipFill>
          <a:blip r:embed="rId1"/>
          <a:stretch/>
        </p:blipFill>
        <p:spPr>
          <a:xfrm>
            <a:off x="5435640" y="1773360"/>
            <a:ext cx="3492360" cy="406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orestation</a:t>
            </a:r>
            <a:endParaRPr b="0" lang="en-US" sz="4400" spc="-1" strike="noStrike">
              <a:solidFill>
                <a:srgbClr val="000000"/>
              </a:solidFill>
              <a:latin typeface="Arial"/>
            </a:endParaRPr>
          </a:p>
        </p:txBody>
      </p:sp>
      <p:sp>
        <p:nvSpPr>
          <p:cNvPr id="47" name="PlaceHolder 2"/>
          <p:cNvSpPr>
            <a:spLocks noGrp="1"/>
          </p:cNvSpPr>
          <p:nvPr>
            <p:ph/>
          </p:nvPr>
        </p:nvSpPr>
        <p:spPr>
          <a:xfrm>
            <a:off x="468000" y="1268280"/>
            <a:ext cx="3538440" cy="4525920"/>
          </a:xfrm>
          <a:prstGeom prst="rect">
            <a:avLst/>
          </a:prstGeom>
          <a:noFill/>
          <a:ln w="0">
            <a:noFill/>
          </a:ln>
        </p:spPr>
        <p:txBody>
          <a:bodyPr anchor="t">
            <a:normAutofit fontScale="94000"/>
          </a:bodyPr>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stead of cutting down trees, we would encourage people to plant and grow more trees. The trees can reduce the amount of desertification because the trees’ roots hold the soil in place. Instead of fleeing from their home the environmental refugees can begin planting trees to decrease desertification which will enable them to stay at their home instead of fleeing. This will help solve the problem with environmental refugees moving to other places and creating more environmental refugees.</a:t>
            </a:r>
            <a:endParaRPr b="0" lang="en-US" sz="1800" spc="-1" strike="noStrike">
              <a:solidFill>
                <a:srgbClr val="000000"/>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5" descr="2056331945_a92b43b0f1"/>
          <p:cNvPicPr/>
          <p:nvPr/>
        </p:nvPicPr>
        <p:blipFill>
          <a:blip r:embed="rId1"/>
          <a:stretch/>
        </p:blipFill>
        <p:spPr>
          <a:xfrm>
            <a:off x="4067280" y="1557360"/>
            <a:ext cx="4762440" cy="2495520"/>
          </a:xfrm>
          <a:prstGeom prst="rect">
            <a:avLst/>
          </a:prstGeom>
          <a:ln w="0">
            <a:noFill/>
          </a:ln>
        </p:spPr>
      </p:pic>
      <p:sp>
        <p:nvSpPr>
          <p:cNvPr id="49" name="Rectangle 6"/>
          <p:cNvSpPr/>
          <p:nvPr/>
        </p:nvSpPr>
        <p:spPr>
          <a:xfrm>
            <a:off x="5003640" y="4292640"/>
            <a:ext cx="324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farm3.static.flickr.com/2047/2056331945_a92b43b0f1.jp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grazing</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53844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prevent overgrazing, we would limit the amount of time the animals can graze on a certain area of land. To do this we would move the animals to a new area of land for just enough time for the land to recover from the grazin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ttp://www.legendarydartmoor.co.uk/images/Drift2.jp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2" name="Picture 5" descr="Drift2"/>
          <p:cNvPicPr/>
          <p:nvPr/>
        </p:nvPicPr>
        <p:blipFill>
          <a:blip r:embed="rId1"/>
          <a:stretch/>
        </p:blipFill>
        <p:spPr>
          <a:xfrm>
            <a:off x="3995640" y="1700280"/>
            <a:ext cx="4496040" cy="2800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or Farming Technique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33228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 would divide the land in half. One half of the land will be used fo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gricultural purposes. The other half will be preserved until it is needed. In doing this, we will also reduce the amount of water used at a time. This will also enable the environmental refugees to stay at their home, which will decrease the spread of diseases by refugees moving to other plac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 name="Picture 5" descr="2353656163_01df903357"/>
          <p:cNvPicPr/>
          <p:nvPr/>
        </p:nvPicPr>
        <p:blipFill>
          <a:blip r:embed="rId1"/>
          <a:stretch/>
        </p:blipFill>
        <p:spPr>
          <a:xfrm>
            <a:off x="3995640" y="1628640"/>
            <a:ext cx="4762440" cy="3571920"/>
          </a:xfrm>
          <a:prstGeom prst="rect">
            <a:avLst/>
          </a:prstGeom>
          <a:ln w="0">
            <a:noFill/>
          </a:ln>
        </p:spPr>
      </p:pic>
      <p:sp>
        <p:nvSpPr>
          <p:cNvPr id="56" name="Rectangle 6"/>
          <p:cNvSpPr/>
          <p:nvPr/>
        </p:nvSpPr>
        <p:spPr>
          <a:xfrm>
            <a:off x="4643280" y="5373720"/>
            <a:ext cx="3167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farm3.static.flickr.com/2022/2353656163_01df903357.jpg?v=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7" descr="MPj04065530000[1]"/>
          <p:cNvPicPr/>
          <p:nvPr/>
        </p:nvPicPr>
        <p:blipFill>
          <a:blip r:embed="rId2"/>
          <a:stretch/>
        </p:blipFill>
        <p:spPr>
          <a:xfrm>
            <a:off x="6443640" y="1628640"/>
            <a:ext cx="2305080" cy="352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environmental refugees? They are people who are forced to flee from their home because of environmental problem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are they being created in Africa? They are being created because of the harsh climate and environment, people are being forced out of their homes, thus the refuge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problems cause by refugees- Overpopulation in close areas where the refugees flee to, which will cause overuse of resources in those places, once those places run out of resources there will be an increased number of refugees. The refugees can also spread diseases to places they move t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5T03:32:34Z</dcterms:created>
  <dc:creator>In Hyouck Chung</dc:creator>
  <dc:description/>
  <dc:language>en-US</dc:language>
  <cp:lastModifiedBy>cfisd</cp:lastModifiedBy>
  <dcterms:modified xsi:type="dcterms:W3CDTF">2009-05-05T12:59:11Z</dcterms:modified>
  <cp:revision>3</cp:revision>
  <dc:subject/>
  <dc:title>Desertification Action Plans</dc:title>
</cp:coreProperties>
</file>