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49097-AFAC-404B-8F15-D0D58653F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2EA81-245D-4132-A779-B478225FF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22E12-7836-4280-ADF3-0705913B8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CBC67-51B3-46C8-B1DC-B1C6B4C93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D9F0B-5B94-44F2-92B5-9750270C7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5D063-E85B-4253-8A4D-67A3BE980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D4A02-206C-4ABE-9DA8-3DA8CAC06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12464-8DD1-4526-8CEB-DFFF9BEDF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16C54-9699-4A09-B900-7B33733FF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0BD5-423B-4114-A8F6-E4276F96A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DEF0E-525F-4A1A-BA97-9B6D9E28A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39972-22A4-476C-9D9D-70102FB50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743C-6179-44B3-9BDE-4832836B51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ve always lived the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have taken their 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have forced them out of their ho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estinians are not allowed to tra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lestinians human rights are being viol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estinians can only use terrorism because they do not have a military fo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raelis attack their citizens using the milit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killed the Hamas spiritual lea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rael is illegally occupying their 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Diaspora, the Jews were forced out of their home la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ews believe the land is rightfully theirs and was granted to them by go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nly use military force to defend themsel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n the Gaza Strip was won during the Six Day W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Holocaust, the Jews want to return to their holy land.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cfisd</cp:lastModifiedBy>
  <dcterms:modified xsi:type="dcterms:W3CDTF">2009-03-02T14:23:32Z</dcterms:modified>
  <cp:revision>4</cp:revision>
  <dc:subject/>
  <dc:title>Palestine/ Israel Conflict</dc:title>
</cp:coreProperties>
</file>