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E1A03-B3BA-48C3-8872-1A74E1319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E4ED3-137B-48AC-9F63-D93D02B3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20719-742C-49F8-B7CF-D3202D7C8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BF659-9E63-4A8A-8D8E-90EE1DE7F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3C79-4E35-46A6-BE07-85F10E99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1075C-8D86-4936-99F0-83D2B3D50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F653-768B-4884-8589-8E5191448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D5475-E98B-4196-BD32-9B4A68A0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202CD-F27D-4D2C-B578-B83032E5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B4A6-B48D-47B9-9088-286F3D99A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D54B-12F6-4D1A-985E-790B90867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B07A-9D39-4001-9A6E-280F04B51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1624-4F49-4C76-9064-9B46028E2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always lived the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taken their 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forced them out of their ho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are not allowed to tra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lestinians human rights are being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can only use terrorism because they do not have a military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is attack their citizens using the mil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killed the Hamas spiritual lea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 is illegally occupying their 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Diaspora, the Jews were forced out of their home l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ews believe the land is rightfully theirs and was granted to them by g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nly use military force to defend them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n the Gaza Strip was won during the Six Day W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Holocaust, the Jews want to return to their holy lan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4:23:32Z</dcterms:modified>
  <cp:revision>4</cp:revision>
  <dc:subject/>
  <dc:title>Palestine/ Israel Conflict</dc:title>
</cp:coreProperties>
</file>