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9096E-F2E4-4E64-8905-97C52908D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B892-1DE2-48DF-AE1B-3245EFE1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6BD07-E8DC-4BBA-B7A7-365EDBF0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78957-F0E8-41C8-BE7D-D5262AE0E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B9A8A-3C8F-4D1C-AAEB-7613E88C2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BA8E-CCAF-44A1-9C58-60AD6D5C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D534E-5985-40A5-BEA9-68C426A0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CCFA-5AE3-4517-8AFC-08E08F94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836D1-B11B-41FA-BE70-4AEEA0CE2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BC58-52D8-4934-AA6B-78A6B7392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7ADF-1BE3-4009-A42F-6AD0BD7C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F90F-119C-4C0F-9C1F-73FBE2A2E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C615-7336-4E2E-AABE-BACF8591A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lways lived t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taken their 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forced them out of their h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are not allowed to tra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estinians human rights are being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can only use terrorism because they do not have a military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is attack their citizens using the mil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killed the Hamas spiritual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 is illegally occupying their 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Diaspora, the Jews were forced out of their home l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ws believe the land is rightfully theirs and was granted to them by g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nly use military force to defend them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n the Gaza Strip was won during the Six Day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Holocaust, the Jews want to return to their holy 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4:23:32Z</dcterms:modified>
  <cp:revision>4</cp:revision>
  <dc:subject/>
  <dc:title>Palestine/ Israel Conflict</dc:title>
</cp:coreProperties>
</file>