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BEDA30-2D2A-4482-9225-16B669CDCF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CF512-9C0C-4BD1-888B-18E8EB02B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98E981-1E35-489E-B022-A1167F872B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202D6D-98A3-43CA-959F-8FDD9071B0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FC033-94A6-4100-980B-E167A6E64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B5E55-203E-4974-8FA0-B0DF6E56D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37A86-9122-4609-99FD-99EF35C30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9DA5F-72D9-4199-ACF5-8236C1685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613E8-48AD-427A-B588-017F2A993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DF622-1470-4E02-A3E8-15F3AD167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01CE9-4A58-432C-BF57-513C9A47E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AE86D-E2F0-46D7-836C-45C3E995F0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DE8AB-8896-4672-8CB3-2F0C6A7C06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estine/ Israel Conflic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e Chu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ca Guilfoyl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y V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estinian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have always lived the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sraelis have taken their l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sraelis have forced them out of their hom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lestinians are not allowed to trav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lestinians human rights are being viola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lestinians can only use terrorism because they do not have a military for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raelis attack their citizens using the milita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sraelis killed the Hamas spiritual lea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rael is illegally occupying their la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raeli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Diaspora, the Jews were forced out of their home lan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Jews believe the land is rightfully theirs and was granted to them by go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only use military force to defend themselv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on the Gaza Strip was won during the Six Day Wa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of the Holocaust, the Jews want to return to their holy land.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estinian Solu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olution beneficial to the Palestinians would be for the Israelis to leave their land. The Palestinians would gain back all the human rights that were previous violated. The Israelis would stop colonizing their land and discontinue military force. If the Israelis complied, then the Palestinians would stop using terrorist attac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raeli Solution</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sraelis would continue colonizing the land and continue with the ethnic cleansing of the Palestinian people. The Israelis would also use their military force to aid in “defending” themselves and forced the Palestinians off land that is rightfully thei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omis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mpromise between the Israelis and Palestinians would be for the two nations to agree to share Palestine and use the land to grow crops and export goods. This would benefit both nations. In return for this ceasefire, terrorism will stop and the Israelis will not violate the Palestinians human rights. Both nations should spread propaganda about the other country in school, to increase positive rela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x Day War</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June 5</a:t>
            </a:r>
            <a:r>
              <a:rPr b="0" lang="en-US" sz="3200" spc="-1" strike="noStrike" baseline="30000">
                <a:solidFill>
                  <a:srgbClr val="000000"/>
                </a:solidFill>
                <a:latin typeface="Arial"/>
              </a:rPr>
              <a:t>th</a:t>
            </a:r>
            <a:r>
              <a:rPr b="0" lang="en-US" sz="3200" spc="-1" strike="noStrike">
                <a:solidFill>
                  <a:srgbClr val="000000"/>
                </a:solidFill>
                <a:latin typeface="Arial"/>
              </a:rPr>
              <a:t> 1967, the Israelis fought the Arab nations of Egypt, Jordan, and Syria using armed forces. Israel took the Gaza Strip by force, and now occupies the l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ma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mas was founded to fight against the Israelis occupation by Muslim Borther hood members. Hamas is an acronym for the Islamic Resistance Movement and acts as an intafad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U.N. Partition Plan</a:t>
            </a:r>
            <a:endParaRPr b="0" lang="en-US" sz="4400" spc="-1" strike="noStrike">
              <a:solidFill>
                <a:srgbClr val="000000"/>
              </a:solidFill>
              <a:latin typeface="Arial"/>
            </a:endParaRPr>
          </a:p>
        </p:txBody>
      </p:sp>
      <p:sp>
        <p:nvSpPr>
          <p:cNvPr id="58"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ited Nations separated Palestine into two nations- the Arab Nation and Jew Nation. Jerusalem became the U.N. headquart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7T13:11:21Z</dcterms:created>
  <dc:creator>cfisd</dc:creator>
  <dc:description/>
  <dc:language>en-US</dc:language>
  <cp:lastModifiedBy>cfisd</cp:lastModifiedBy>
  <dcterms:modified xsi:type="dcterms:W3CDTF">2009-03-02T14:23:32Z</dcterms:modified>
  <cp:revision>4</cp:revision>
  <dc:subject/>
  <dc:title>Palestine/ Israel Conflict</dc:title>
</cp:coreProperties>
</file>