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3C32A-9FCB-4888-92F7-55A445502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65D38-438D-43DF-AB24-D847341EA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DDA97-F885-48E6-980E-69D83CF60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B985E-D5CD-401F-AEEB-29607407E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4F51B-AA13-48E7-9135-51973C79E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D93AE-D350-4593-85B2-AC5F97366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E723F-2C60-40CA-8A10-27AAE6323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6A0CB-8B9C-471B-84E7-6C8905D6B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ADBE3-223B-4AE8-A3E2-9E288C78C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C531F-9E71-448C-82B1-A6C8A893B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DD5C8-5824-4AC5-992C-B6CAB7482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D04F4-2154-43CF-A15F-C2B14EA96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9BD8-74AB-4BFF-BA27-66FDAFC339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3mfuture.com/images/tsunami_wave_coming_now_too_late.jpg"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friendsofwater.com/images/water_bottles_caps.jpg"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covery Pla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2000" y="1557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916360" y="2349360"/>
            <a:ext cx="3333600" cy="2914920"/>
          </a:xfrm>
          <a:prstGeom prst="rect">
            <a:avLst/>
          </a:prstGeom>
          <a:ln w="0">
            <a:noFill/>
          </a:ln>
        </p:spPr>
      </p:pic>
      <p:sp>
        <p:nvSpPr>
          <p:cNvPr id="44" name=""/>
          <p:cNvSpPr/>
          <p:nvPr/>
        </p:nvSpPr>
        <p:spPr>
          <a:xfrm>
            <a:off x="2752560" y="5373720"/>
            <a:ext cx="639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cross.co.nz/tears%20from%20disaster.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ster Analysis</a:t>
            </a:r>
            <a:endParaRPr b="0" lang="en-US" sz="4400" spc="-1" strike="noStrike">
              <a:solidFill>
                <a:srgbClr val="000000"/>
              </a:solidFill>
              <a:latin typeface="Arial"/>
            </a:endParaRPr>
          </a:p>
        </p:txBody>
      </p:sp>
      <p:sp>
        <p:nvSpPr>
          <p:cNvPr id="46" name="PlaceHolder 2"/>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What caused the tsunami?</a:t>
            </a:r>
            <a:r>
              <a:rPr b="0" lang="en-US" sz="1400" spc="-1" strike="noStrike">
                <a:solidFill>
                  <a:srgbClr val="000000"/>
                </a:solidFill>
                <a:latin typeface="Arial"/>
              </a:rPr>
              <a:t> The tsunami was caused by severe seismic activities (earthquakes) on the ocean floor .</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horrific tsunami hit without warning. The tsunami wiped out the entire city. The tsunami created complete chaos in South Asia. Roads were destroyed, building were torn down, and numerous lives were lost. This natural disaster destroyed everything in it’s path.</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7" name="" descr=""/>
          <p:cNvPicPr/>
          <p:nvPr/>
        </p:nvPicPr>
        <p:blipFill>
          <a:blip r:embed="rId1"/>
          <a:stretch/>
        </p:blipFill>
        <p:spPr>
          <a:xfrm>
            <a:off x="5580000" y="2205000"/>
            <a:ext cx="3384720" cy="4365720"/>
          </a:xfrm>
          <a:prstGeom prst="rect">
            <a:avLst/>
          </a:prstGeom>
          <a:ln w="0">
            <a:noFill/>
          </a:ln>
        </p:spPr>
      </p:pic>
      <p:sp>
        <p:nvSpPr>
          <p:cNvPr id="48" name=""/>
          <p:cNvSpPr/>
          <p:nvPr/>
        </p:nvSpPr>
        <p:spPr>
          <a:xfrm>
            <a:off x="0" y="6237360"/>
            <a:ext cx="54720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3mfuture.com/images/tsunami_wave_coming_now_too_late.jp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roject.slac.stanford.edu/wis/images/SearchforBelongings.jp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9" name="" descr=""/>
          <p:cNvPicPr/>
          <p:nvPr/>
        </p:nvPicPr>
        <p:blipFill>
          <a:blip r:embed="rId3"/>
          <a:stretch/>
        </p:blipFill>
        <p:spPr>
          <a:xfrm>
            <a:off x="179280" y="2205000"/>
            <a:ext cx="519768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ster Relief</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3052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witnesses who experienced this tragedy were in complete shock and everything was in turmoil. Many were separated from their families and were stranded. Their homes, belongings, and lives were swept away from th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How would I solve the disasters caused by the tsunam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victims would be relocated to a safe and stable area. Those in need of medical attention would immediately get taken care of and vaccinations would be given to everyone. Food, water, and warm clothing would be provided for the people. Because of the media, many people from around the world will try to help. I would use the money raised from campaigns and fundraisers to restore the devastation. Foreign aid would help clean, rebuild, and hopefully repair the area.</a:t>
            </a:r>
            <a:endParaRPr b="0" lang="en-US" sz="1400" spc="-1" strike="noStrike">
              <a:solidFill>
                <a:srgbClr val="000000"/>
              </a:solidFill>
              <a:latin typeface="Arial"/>
            </a:endParaRPr>
          </a:p>
        </p:txBody>
      </p:sp>
      <p:pic>
        <p:nvPicPr>
          <p:cNvPr id="52" name="" descr=""/>
          <p:cNvPicPr/>
          <p:nvPr/>
        </p:nvPicPr>
        <p:blipFill>
          <a:blip r:embed="rId1"/>
          <a:stretch/>
        </p:blipFill>
        <p:spPr>
          <a:xfrm>
            <a:off x="826920" y="3789360"/>
            <a:ext cx="3313440" cy="2486160"/>
          </a:xfrm>
          <a:prstGeom prst="rect">
            <a:avLst/>
          </a:prstGeom>
          <a:ln w="0">
            <a:noFill/>
          </a:ln>
        </p:spPr>
      </p:pic>
      <p:sp>
        <p:nvSpPr>
          <p:cNvPr id="53" name=""/>
          <p:cNvSpPr/>
          <p:nvPr/>
        </p:nvSpPr>
        <p:spPr>
          <a:xfrm>
            <a:off x="755640" y="6400800"/>
            <a:ext cx="741672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friendsofwater.com/images/water_bottles_caps.jpg</a:t>
            </a:r>
            <a:r>
              <a:rPr b="0" lang="en-US" sz="1200" spc="-1" strike="noStrike" u="sng">
                <a:solidFill>
                  <a:srgbClr val="000000"/>
                </a:solidFill>
                <a:uFillTx/>
                <a:latin typeface="Arial"/>
              </a:rPr>
              <a:t> http://www.nursingadvocacy.org/news/2004dec/29_tsunami_7.gif</a:t>
            </a:r>
            <a:r>
              <a:rPr b="0" lang="en-US" sz="1200" spc="-1" strike="noStrike" u="sng">
                <a:solidFill>
                  <a:srgbClr val="000000"/>
                </a:solidFill>
                <a:uFillTx/>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54" name="" descr=""/>
          <p:cNvPicPr/>
          <p:nvPr/>
        </p:nvPicPr>
        <p:blipFill>
          <a:blip r:embed="rId3"/>
          <a:stretch/>
        </p:blipFill>
        <p:spPr>
          <a:xfrm>
            <a:off x="5364000" y="3833640"/>
            <a:ext cx="3313440" cy="30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03:54:15Z</dcterms:created>
  <dc:creator>In Hyouck Chung</dc:creator>
  <dc:description/>
  <dc:language>en-US</dc:language>
  <cp:lastModifiedBy>In Hyouck Chung</cp:lastModifiedBy>
  <dcterms:modified xsi:type="dcterms:W3CDTF">2009-03-13T03:54:18Z</dcterms:modified>
  <cp:revision>1</cp:revision>
  <dc:subject/>
  <dc:title>Tsunami Recovery Plan</dc:title>
</cp:coreProperties>
</file>