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AFE2-7727-4B8E-A564-3B5805A7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8729-584B-498C-941E-F230D672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373D-80DB-48E4-A366-3DEF7884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E598-55E3-4395-A1EA-58FEDDD2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1BB6-2562-4AC7-81B6-EDF2D2B3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9CC-8CF7-4775-BA5F-45F94CC3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4B1-8310-4081-8C42-B157D471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E5A-3A7F-4564-AB64-885AFB8E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78D9-EE6C-4615-88EF-C6560627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D3D-34BE-4E80-ACE3-A40B050D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397A-7572-4B48-99C6-26D0CDF1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BC5E-590C-4A8B-A415-CD51D7C4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9A43-962F-4CDD-B713-CD29DDEC8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28600" y="152280"/>
            <a:ext cx="8458200" cy="632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 – Meeting between _Grace Chung_____ and Kim Jong 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Human rights abu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Forcing unnecessary rules and regulations against North Korean citize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ligion should be free choice and not be focused on Kim Jong 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Giving citizens can better their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Nuclear missil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ell other nations about their TRUE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ert other nations about their tac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ell other nations when they have successfully launched their miss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mmand economy is Negatively affecting North Korea’s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reate a trade alliance with other nations  to better their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2:22:33Z</dcterms:created>
  <dc:creator>cfisd</dc:creator>
  <dc:description/>
  <dc:language>en-US</dc:language>
  <cp:lastModifiedBy>cfisd</cp:lastModifiedBy>
  <dcterms:modified xsi:type="dcterms:W3CDTF">2009-05-29T12:24:41Z</dcterms:modified>
  <cp:revision>1</cp:revision>
  <dc:subject/>
  <dc:title>Slide 1</dc:title>
</cp:coreProperties>
</file>