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0B5-8657-4112-8477-3B93CA59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F22-3443-4732-A582-5FDB84AF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A4E-081F-4554-8886-EE07971F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976-F69A-426E-A26F-08FD44FD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7B6-B550-4E05-84CE-BC9B885E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80A-A75F-40AF-8598-CE0D885A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125-915F-4716-BFA8-7CDBE242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CEF-A2DB-4067-963E-2DE1C223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53A-0172-4334-9E9C-1EA653BF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57C6-D6E7-4A8F-A2B8-47BFAF61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A3D-849C-4A4C-9C00-D2D12176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D56-2120-41A1-962E-3440FDA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5E59-C9DA-4AB2-9179-224092DAB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28600" y="152280"/>
            <a:ext cx="8458200" cy="632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– Meeting between _Grace Chung_____ and Kim Jong 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uman rights ab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orcing unnecessary rules and regulations against North Korean citiz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ligion should be free choice and not be focused on Kim Jong 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iving citizens can better their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uclear missi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l other nations about their TRUE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ert other nations about their tac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l other nations when they have successfully launched their miss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mand economy is Negatively affecting North Korea’s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eate a trade alliance with other nations  to better their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2:22:33Z</dcterms:created>
  <dc:creator>cfisd</dc:creator>
  <dc:description/>
  <dc:language>en-US</dc:language>
  <cp:lastModifiedBy>cfisd</cp:lastModifiedBy>
  <dcterms:modified xsi:type="dcterms:W3CDTF">2009-05-29T12:24:41Z</dcterms:modified>
  <cp:revision>1</cp:revision>
  <dc:subject/>
  <dc:title>Slide 1</dc:title>
</cp:coreProperties>
</file>