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E647-C280-46E9-89BB-0613809B1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A8CD-B9A8-42CF-B925-8488C75E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A422-C6C3-4B14-BF14-B902BCD08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98FD-A8D2-418C-BCF6-D9CA8E9D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4E48-F7AA-44B7-A119-26A30335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324D-4AD7-4790-BDD2-55BE1560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57C0-26C7-4C01-9180-C17A9A91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B790-B566-4E1F-8314-828789BD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3C15-6CD6-48C6-B9F6-3041FFB6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AF52-8CDD-4E9D-AE6E-A9FDCF11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E6A4-6CBA-4BC8-8DEE-1529FC02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2507-D950-427A-858F-6A70AC51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6566-3565-49AD-9DE7-ED461EB35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228600" y="152280"/>
            <a:ext cx="8458200" cy="632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da – Meeting between _Grace Chung_____ and Kim Jong 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Human rights abu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Forcing unnecessary rules and regulations against North Korean citize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Religion should be free choice and not be focused on Kim Jong 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Giving citizens can better their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Nuclear missile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ell other nations about their TRUE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lert other nations about their tact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ell other nations when they have successfully launched their miss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ommand economy is Negatively affecting North Korea’s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reate a trade alliance with other nations  to better their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12:22:33Z</dcterms:created>
  <dc:creator>cfisd</dc:creator>
  <dc:description/>
  <dc:language>en-US</dc:language>
  <cp:lastModifiedBy>cfisd</cp:lastModifiedBy>
  <dcterms:modified xsi:type="dcterms:W3CDTF">2009-05-29T12:24:41Z</dcterms:modified>
  <cp:revision>1</cp:revision>
  <dc:subject/>
  <dc:title>Slide 1</dc:title>
</cp:coreProperties>
</file>