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0A5D-B124-4C69-9349-B8DBC665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006-85E8-4098-8410-B30A685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11A-F188-401B-BBB3-5AB60389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5F0-1858-4532-99B9-B680546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485-2FE1-45E0-8CCE-955CDD3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731-A075-4540-B8AB-094D437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4C9-1B35-4F5A-861E-A3ABF840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600-E02C-423A-887E-0BC6D91D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1B5-7067-4CE1-8F31-C2B798D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1A7-FB4D-4FE2-ADA8-F61AF6F6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D7D-9E3E-45C3-9426-70E6EE9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E36-35B7-4CF7-8812-CD8D7B4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68B-53F0-46DE-8EE3-66D34BFB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8600" y="152280"/>
            <a:ext cx="845820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– Meeting between _Grace Chung_____ and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uman rights ab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orcing unnecessary rules and regulations against North Korean citiz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ligion should be free choice and not be focused on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ing citizens can better thei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uclear missi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about their TRU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ert other nations about their tac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when they have successfully launched their miss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and economy is Negatively affecting North Korea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eate a trade alliance with other nations  to better their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22:33Z</dcterms:created>
  <dc:creator>cfisd</dc:creator>
  <dc:description/>
  <dc:language>en-US</dc:language>
  <cp:lastModifiedBy>cfisd</cp:lastModifiedBy>
  <dcterms:modified xsi:type="dcterms:W3CDTF">2009-05-29T12:24:41Z</dcterms:modified>
  <cp:revision>1</cp:revision>
  <dc:subject/>
  <dc:title>Slide 1</dc:title>
</cp:coreProperties>
</file>