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D82F-8A37-44FA-96D5-961A968BD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4B8C-393F-4238-903B-687E789DD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46BC-FEC8-4ABC-BFE7-877EDDE7D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35A6-F713-4796-A977-278B02AC7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E8B7-1E76-4EEE-82CB-E340630A8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DC8F-60E9-41AD-8716-06157D4FE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EF33-CF68-4985-B7BD-FCDFA4F98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F285-37CF-45CE-8DAF-5CCCA6DEF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5617-BF4A-4065-B640-0EC36D03C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0964-6C84-4CC8-92FD-AE0DB0E75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EC19-B1BF-4DDC-BE6B-2B270CCFC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E997-A86F-422B-9BB8-56E8E7F31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38B43-D756-45F4-9AA0-D2985EB4E4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st/ South East Asia Projec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d By Sarah Dye and Grace Chu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sical Ge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an-Environment Inte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ig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onomic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13:08:23Z</dcterms:created>
  <dc:creator>cfisd</dc:creator>
  <dc:description/>
  <dc:language>en-US</dc:language>
  <cp:lastModifiedBy>cfisd</cp:lastModifiedBy>
  <dcterms:modified xsi:type="dcterms:W3CDTF">2009-04-21T13:09:47Z</dcterms:modified>
  <cp:revision>1</cp:revision>
  <dc:subject/>
  <dc:title>East/ South East Asia Project!</dc:title>
</cp:coreProperties>
</file>