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3D9-CBA5-4017-BC8A-9092E169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019-E0B1-4ECB-AF8E-24C30672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73D-80B6-4C7F-8AC7-6B229E21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DE7-1839-4AAA-AFC3-7B2FA73D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1C9-E948-4851-9872-1CE094C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FF8-FAE4-416C-8EBE-94CB8069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7B3-9EB4-4C24-B41F-633C3414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9D8-21A6-47FA-9DC4-8AAB5423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39A-7E2F-4F09-8302-3ECB10C9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89E-51B0-4508-AF20-B6B78BA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1F7-8BC8-4149-B736-7D0FF20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9D3-F580-487E-9F01-1CEF06A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72E-1FFA-44BC-AB84-8695C848B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 South East Asia Proj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Sarah Dye and Grace Chu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08:23Z</dcterms:created>
  <dc:creator>cfisd</dc:creator>
  <dc:description/>
  <dc:language>en-US</dc:language>
  <cp:lastModifiedBy>cfisd</cp:lastModifiedBy>
  <dcterms:modified xsi:type="dcterms:W3CDTF">2009-04-21T13:09:47Z</dcterms:modified>
  <cp:revision>1</cp:revision>
  <dc:subject/>
  <dc:title>East/ South East Asia Project!</dc:title>
</cp:coreProperties>
</file>