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2A1-2A06-4357-BEF6-47E9D253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7DE-876B-43DF-9D9E-C675042A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7D8-4191-418A-A99B-2FD39BA1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7AA-BC63-41F5-B636-D0017AF4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529-04DC-4554-ADBD-07D2DA22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2AD-E405-4F5D-AD34-27DA30A1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1F2-526A-4FF3-8F5A-57FD28A3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724-6ADE-4885-924A-91330266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9E6-2F26-4E01-A0C1-945A110B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7CE-6DFF-441A-8C52-C3A3A77D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0AA-5E9A-4A5E-B73B-549E832F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B87-04BC-4E00-A0E0-305926FB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DA0D-5132-42C2-AF61-8370D6F9F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t/ South East Asia Proje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Sarah Dye and Grace Chu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-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3:08:23Z</dcterms:created>
  <dc:creator>cfisd</dc:creator>
  <dc:description/>
  <dc:language>en-US</dc:language>
  <cp:lastModifiedBy>cfisd</cp:lastModifiedBy>
  <dcterms:modified xsi:type="dcterms:W3CDTF">2009-04-21T13:09:47Z</dcterms:modified>
  <cp:revision>1</cp:revision>
  <dc:subject/>
  <dc:title>East/ South East Asia Project!</dc:title>
</cp:coreProperties>
</file>