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E70-5E02-4733-AF58-DBD5E24D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267-D511-4111-9903-A144BC2D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954-59D5-48F1-A6AC-684D4FC0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458-4249-4386-883E-EE58BC29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1A8-3626-4DED-AD72-0A059DDF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9A7-D1EA-4DA8-BB16-E41F2DA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F6E-E082-4F62-ACB9-CDD7064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D4A-9C8A-4813-9443-BAAC563B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305-1646-47B3-B13D-C21DAE9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084-B337-4BA3-80C2-8C9A0C8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76B-E1FE-4FD5-A183-EFEC8E6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A49-51DD-482D-93FB-F3446AB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455C-016E-48B9-AD40-AD47D57E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 South East Asia Proj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arah Dye and Grace Chu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08:23Z</dcterms:created>
  <dc:creator>cfisd</dc:creator>
  <dc:description/>
  <dc:language>en-US</dc:language>
  <cp:lastModifiedBy>cfisd</cp:lastModifiedBy>
  <dcterms:modified xsi:type="dcterms:W3CDTF">2009-04-21T13:09:47Z</dcterms:modified>
  <cp:revision>1</cp:revision>
  <dc:subject/>
  <dc:title>East/ South East Asia Project!</dc:title>
</cp:coreProperties>
</file>