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52DBB-366B-4485-A4EB-96C76D567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3A1C2-6E29-46CB-8D55-8AAEDC085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4FC16-3E6C-4498-8002-7BD20F7ED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47E4C-97B2-4299-B7FA-1047B1CA6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A751F-2239-4585-9D00-3F3644A75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85851-9AA5-46D0-99F0-5B3635AA3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CFFD8-FF62-46F4-9C99-832884579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E17AB-A4C8-4993-B19B-3A0D09DD2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61D73-4638-4AC8-BF9B-413080D2F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C4BF9-C8BC-4417-AA29-137CC2B37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E7B90-4FAD-4399-8BDF-34BC92E82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9D944-9851-4F1D-94B9-1BEB1F986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63E5-0530-4CB3-B6E0-68D794D650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st/ South East Asia Proje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Sarah Dye and 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Geography of East/Southeast Asia</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Environment Intera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ies like Singapore deal with the negative effects of a graying population everyday. One attempt Japan has made to increase their population is to encourage marriage and provide tips on dat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gative effect of a graying population is that the country will not have enough people to work and provide for the nation. One negative effect of overpopulation is that there is not enough resources for the number of citizens in the country.</a:t>
            </a:r>
            <a:endParaRPr b="0" lang="en-US" sz="2000" spc="-1" strike="noStrike">
              <a:solidFill>
                <a:srgbClr val="000000"/>
              </a:solidFill>
              <a:latin typeface="Arial"/>
            </a:endParaRPr>
          </a:p>
        </p:txBody>
      </p:sp>
      <p:pic>
        <p:nvPicPr>
          <p:cNvPr id="49" name="" descr=""/>
          <p:cNvPicPr/>
          <p:nvPr/>
        </p:nvPicPr>
        <p:blipFill>
          <a:blip r:embed="rId1"/>
          <a:stretch/>
        </p:blipFill>
        <p:spPr>
          <a:xfrm>
            <a:off x="2057400" y="3886200"/>
            <a:ext cx="5181480" cy="259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s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7-Communist leaders create the Soviet Union after Russian Revolu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9-Communist party takes control and Chinese civil war end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Vietnam is defeated and turned into a communist par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f communism affected the people of the region by limiting their freedoms and made them secluded to the world. It allowed the government to have all control of the region and the economy to suffer due to a selfish government.</a:t>
            </a:r>
            <a:endParaRPr b="0" lang="en-US" sz="1800" spc="-1" strike="noStrike">
              <a:solidFill>
                <a:srgbClr val="000000"/>
              </a:solidFill>
              <a:latin typeface="Arial"/>
            </a:endParaRPr>
          </a:p>
        </p:txBody>
      </p:sp>
      <p:sp>
        <p:nvSpPr>
          <p:cNvPr id="54"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s</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4038480" cy="2185920"/>
          </a:xfrm>
          <a:prstGeom prst="rect">
            <a:avLst/>
          </a:prstGeom>
          <a:ln w="0">
            <a:noFill/>
          </a:ln>
        </p:spPr>
      </p:pic>
      <p:pic>
        <p:nvPicPr>
          <p:cNvPr id="57" name="" descr=""/>
          <p:cNvPicPr/>
          <p:nvPr/>
        </p:nvPicPr>
        <p:blipFill>
          <a:blip r:embed="rId2"/>
          <a:stretch/>
        </p:blipFill>
        <p:spPr>
          <a:xfrm>
            <a:off x="4648320" y="1600200"/>
            <a:ext cx="4038480" cy="2185920"/>
          </a:xfrm>
          <a:prstGeom prst="rect">
            <a:avLst/>
          </a:prstGeom>
          <a:ln w="0">
            <a:noFill/>
          </a:ln>
        </p:spPr>
      </p:pic>
      <p:sp>
        <p:nvSpPr>
          <p:cNvPr id="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country experiences lack of resources they can trade with other countries in ways such as the JAKOTA triangle. If you have a physical barrier like the Great Wall of China you can adapt to the barrier through using modernization and infrastructure such as planes and trains to tra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factors that aid economic development are the JAKOTA triangle and other forms of trade alliances such as the U.S. has with many East/ Southeast nations.</a:t>
            </a:r>
            <a:endParaRPr b="0" lang="en-US" sz="1800" spc="-1" strike="noStrike">
              <a:solidFill>
                <a:srgbClr val="000000"/>
              </a:solidFill>
              <a:latin typeface="Arial"/>
            </a:endParaRPr>
          </a:p>
        </p:txBody>
      </p:sp>
      <p:pic>
        <p:nvPicPr>
          <p:cNvPr id="59" name="" descr=""/>
          <p:cNvPicPr/>
          <p:nvPr/>
        </p:nvPicPr>
        <p:blipFill>
          <a:blip r:embed="rId3"/>
          <a:stretch/>
        </p:blipFill>
        <p:spPr>
          <a:xfrm>
            <a:off x="457200" y="1219320"/>
            <a:ext cx="41148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3:08:23Z</dcterms:created>
  <dc:creator>cfisd</dc:creator>
  <dc:description/>
  <dc:language>en-US</dc:language>
  <cp:lastModifiedBy>cfisd</cp:lastModifiedBy>
  <dcterms:modified xsi:type="dcterms:W3CDTF">2009-04-23T13:11:12Z</dcterms:modified>
  <cp:revision>2</cp:revision>
  <dc:subject/>
  <dc:title>East/ South East Asia Project!</dc:title>
</cp:coreProperties>
</file>